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35A6-D3FD-4D26-8C71-FB14659B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8B3-F241-493B-A7AF-5D970684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95BE-B649-498D-AB86-D5099564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35D7-634F-4D0D-B916-80FA8D65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0FD1-D6C2-4462-A3DD-577B8355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6F95-9D31-4B25-9E41-3D908798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FD21-406B-4F4D-A3C4-76CC48EF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248-FFF8-4550-BA06-F537D00A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2B3-BE2E-4039-AD73-7CD61455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14A-9C02-4D3E-A91C-DFC886C6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076-EEEC-40E6-A42C-CF349B26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F8E-DF01-45A4-8ABB-6803912A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3EB9-1DCC-44EF-96BD-7D36FB946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762120"/>
            <a:ext cx="66294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800000"/>
                </a:solidFill>
                <a:uFillTx/>
                <a:latin typeface="ITC Officina Serif Bold"/>
              </a:rPr>
              <a:t>Georgia O’Keef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81760" cy="444528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772400" y="64008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338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800600" y="1295280"/>
            <a:ext cx="4343400" cy="375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orgia was born 1887.  When she was 10 years old she knew she wanted to be an arti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7772400" y="61722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19320" y="106668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025d"/>
                </a:solidFill>
                <a:latin typeface="Times New Roman"/>
              </a:rPr>
              <a:t>Georgia studied in Chicago, New York, and Virgin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441972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025d"/>
                </a:solidFill>
                <a:latin typeface="Times New Roman"/>
              </a:rPr>
              <a:t>She became an art teacher in Tex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7543800" y="60958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163" h="21600">
                <a:moveTo>
                  <a:pt x="23575" y="3794"/>
                </a:moveTo>
                <a:lnTo>
                  <a:pt x="37588" y="10800"/>
                </a:lnTo>
                <a:lnTo>
                  <a:pt x="23575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6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352680"/>
            <a:ext cx="914400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he  threw  away  all  her  early  wor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he began painting her surroundings in the dese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7696080" y="617220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3794"/>
                </a:moveTo>
                <a:lnTo>
                  <a:pt x="41558" y="10800"/>
                </a:lnTo>
                <a:lnTo>
                  <a:pt x="27545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30480" y="0"/>
            <a:ext cx="5213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80880"/>
            <a:ext cx="396252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he sent her work to New Y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Alfred Stieglitz showed her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Georgia and Alfred married, together they became fam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777240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3794"/>
                </a:moveTo>
                <a:lnTo>
                  <a:pt x="39366" y="10800"/>
                </a:lnTo>
                <a:lnTo>
                  <a:pt x="25353" y="17806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24080" cy="327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2048040" cy="327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267080" y="0"/>
            <a:ext cx="2425680" cy="3276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705720" y="0"/>
            <a:ext cx="2420640" cy="327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0" y="3276720"/>
            <a:ext cx="272880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743200" y="3276720"/>
            <a:ext cx="2873520" cy="3581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5638680" y="32767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11:04:41Z</dcterms:created>
  <dc:creator>Annette Loy</dc:creator>
  <dc:description/>
  <dc:language>en-US</dc:language>
  <cp:lastModifiedBy>WinuE</cp:lastModifiedBy>
  <dcterms:modified xsi:type="dcterms:W3CDTF">2010-06-08T16:26:19Z</dcterms:modified>
  <cp:revision>2</cp:revision>
  <dc:subject/>
  <dc:title>No Slide Title</dc:title>
</cp:coreProperties>
</file>